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B9E-FED6-46BF-AA30-CA59A887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7C7-01DA-40FE-BB05-D992D221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A63-4191-4837-A0EB-872E2DA7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7ED-94DB-4B8E-9514-4A3D833F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08AF-EA72-45F6-8A13-2568C838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EFAA-5E39-4E00-875F-9CF0C050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4FE9-30A3-4C7F-ABFC-56EB41BE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5830-8D38-47F9-B588-2608DB91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3E9B-3293-4EC2-BED3-6FBF7CBD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440D-98CF-48D7-BAEE-D9FD291A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E0D2-756C-4368-82BC-3E9D0AA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AB5-C690-4FF4-85F9-5F75F21E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2476-139A-4826-9B0C-D47D178D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14D4-A8A5-4AEF-A957-8AE07347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29D4-6BE0-4975-95D7-70DAD7A0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0878-713E-416F-947E-4A6BCB9F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027B-56A7-4BAD-B1FB-3C8BB6FC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0B0-B183-4264-8A60-12D78E8D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07C-CA9F-4503-B34D-32049FB6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4C0-71C9-4D77-9253-B0CB027C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34C-47BF-4FF6-AFEA-F9F5D8CC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1B6-2C8C-4E6D-9A34-ECE1D96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6CD-EF57-49F1-888C-FFCBDF3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973-92D5-4FA6-867D-351B3682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5955-22BF-4E8A-BF0A-69A2C3D4BB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4CC8-D310-44A5-B0FC-AE57FC8738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DOL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to 8 seconds after you swallow your food is all ready in you’re stomach, it purees your food quick and effici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rected Sente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Fo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e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conds after you swallow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your food is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alread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yo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tomach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stomach purees your food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quick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efficient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cused Freewr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uld you rather find true l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d 10 million dolla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vocabulary squar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hapter 4-answer the following questions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re does Scout receive the majority of her educat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es Scout find in the tree in the Radley house when she is alon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 Jem and Scout find in the hiding place togethe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do you think the objects got in the tre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did the children amuse themselves during Dill’s second summe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you think their parents should have allowed them to play this gam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od is the emotions that you feel while you are reading. Some literature makes you feel sad, others joyful, still others, angr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hand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od Cont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following pages in the novel and describe what the mood is and what words the author uses to show this m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riting Activity-Homework, due Friday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ice how Harper Lee uses language to intensify the mood of terror and suspense as Jem trespasses on the Radley property. Describe a time when you were very frightened, or make up a scary situation. Use language that evokes all of your senses to recreat the feeling of terror that you experienced. Make the reader scar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7:58:15Z</dcterms:created>
  <dc:creator>rebecca</dc:creator>
  <dc:description/>
  <dc:language>en-US</dc:language>
  <cp:lastModifiedBy>Angie</cp:lastModifiedBy>
  <dcterms:modified xsi:type="dcterms:W3CDTF">2009-01-21T06:29:10Z</dcterms:modified>
  <cp:revision>3</cp:revision>
  <dc:subject/>
  <dc:title>DOL</dc:title>
</cp:coreProperties>
</file>